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02D7-F8E5-4DDD-8062-BB8BD3C33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A4D6-9080-4574-AA0C-9F467EF7A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7755-1207-4669-BA7C-B11D02C3C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F6FB-D9B5-4728-8776-586812544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B26C-7520-455B-BB85-5B5224A1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7959-6CF4-4CF7-874A-D6F280B96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ECB2-8BE9-4CCD-8D71-D27B5E453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96F9-1635-40FE-A8B3-1C0F305E2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7848-F255-4D95-83F7-C50834E04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746C-A4AD-48B3-96B6-81D4325D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8730-0058-4FBE-907D-A14BC319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300B-8A4C-4F04-8E1E-22DD9134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72CE2-86C4-4182-B211-768E42283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freeplaymusic.com/search/category_search.php?t=f&amp;i=6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hyperlink" Target="http://inventors.about.com/gi/dynamic/offsite.htm?site=http://web.archive.org/web/20020601192140/http://collections.ic.gc.ca/naismith/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inventors.about.com/gi/dynamic/offsite.htm?site=http://web.archive.org/web/20020601192140/http://collections.ic.gc.ca/naismith/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1066680"/>
            <a:ext cx="754380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>
                        <a:alpha val="50196"/>
                      </a:srgbClr>
                    </a:gs>
                    <a:gs pos="100000">
                      <a:srgbClr val="005cb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Bernard MT Condensed"/>
              </a:rPr>
              <a:t>Basketball</a:t>
            </a:r>
            <a:endParaRPr b="0" lang="en-US" sz="4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3d4a8">
                      <a:alpha val="50196"/>
                    </a:srgbClr>
                  </a:gs>
                  <a:gs pos="100000">
                    <a:srgbClr val="005cbf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Bernard MT Condensed"/>
              <a:ea typeface="Bernard MT Condensed"/>
            </a:endParaRPr>
          </a:p>
        </p:txBody>
      </p:sp>
      <p:sp>
        <p:nvSpPr>
          <p:cNvPr id="42" name=""/>
          <p:cNvSpPr/>
          <p:nvPr/>
        </p:nvSpPr>
        <p:spPr>
          <a:xfrm>
            <a:off x="6019920" y="4876920"/>
            <a:ext cx="27432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ch 9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952880"/>
            <a:ext cx="54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nd: Free 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ighway Five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rch 11, 20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freeplaymusic.com/search/category_search.php?t=f&amp;i=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219320" y="4221000"/>
            <a:ext cx="609480" cy="4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0168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James Niasmith Photo"/>
          <p:cNvPicPr/>
          <p:nvPr/>
        </p:nvPicPr>
        <p:blipFill>
          <a:blip r:embed="rId2"/>
          <a:stretch/>
        </p:blipFill>
        <p:spPr>
          <a:xfrm>
            <a:off x="457200" y="380880"/>
            <a:ext cx="3962520" cy="2936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648320" y="1752480"/>
            <a:ext cx="44956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ut.com,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Dr. James Naismith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ch 9, 20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inventors.about.com/gi/dynamic/offsite.htm?site=http://web.archive.org/web/20020601192140/http://collections.ic.gc.ca/naismith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609480"/>
            <a:ext cx="381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his is a picture of James Naismith. He invented the game of basketball in 189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Peach Basket"/>
          <p:cNvPicPr/>
          <p:nvPr/>
        </p:nvPicPr>
        <p:blipFill>
          <a:blip r:embed="rId4"/>
          <a:stretch/>
        </p:blipFill>
        <p:spPr>
          <a:xfrm>
            <a:off x="380880" y="3733920"/>
            <a:ext cx="2590920" cy="1600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5529240"/>
            <a:ext cx="81532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ut.com,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The Birth of a New Game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rch 9, 20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inventors.about.com/gi/dynamic/offsite.htm?site=http://web.archive.org/web/20020601192140/http://collections.ic.gc.ca/naismith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3733920"/>
            <a:ext cx="259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hese are the materials you might need to play basketball in the old da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6324480" y="3581280"/>
            <a:ext cx="1714680" cy="17146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924680" y="46483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ntion: Basket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rlin Sans FB"/>
              </a:rPr>
              <a:t>After basketball was invented by James Naismith, the popularity of the sport spread quickly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rlin Sans FB"/>
              </a:rPr>
              <a:t>Naismith taught his class to play the game by dividing them into two teams of nine and tossing a soccer ball into peach basket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rlin Sans FB"/>
              </a:rPr>
              <a:t>The first official basketball arrived in 1909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rlin Sans FB"/>
              </a:rPr>
              <a:t>Today, basketball is less brutal than it was in its early day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rlin Sans FB"/>
              </a:rPr>
              <a:t>It is now played by 5 players at each team on the court at a time instead of 9 players on each team playing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ntor: James Naismi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rlin Sans FB"/>
              </a:rPr>
              <a:t>James Naismith was born on November 6</a:t>
            </a:r>
            <a:r>
              <a:rPr b="0" lang="en-US" sz="2700" spc="-1" strike="noStrike" baseline="30000">
                <a:solidFill>
                  <a:srgbClr val="000000"/>
                </a:solidFill>
                <a:latin typeface="Berlin Sans FB"/>
              </a:rPr>
              <a:t>th</a:t>
            </a:r>
            <a:r>
              <a:rPr b="0" lang="en-US" sz="2700" spc="-1" strike="noStrike">
                <a:solidFill>
                  <a:srgbClr val="000000"/>
                </a:solidFill>
                <a:latin typeface="Berlin Sans FB"/>
              </a:rPr>
              <a:t>, 1861 in Almonte, Ontario, Canada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rlin Sans FB"/>
              </a:rPr>
              <a:t>He was an outstanding athlet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rlin Sans FB"/>
              </a:rPr>
              <a:t>When he entered McGill University in Montreal, he excelled in rugby and gymnastic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rlin Sans FB"/>
              </a:rPr>
              <a:t>He was a P.E. director and he taught classes and participated in sport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rlin Sans FB"/>
              </a:rPr>
              <a:t>James was in charge of coming up with new athletic games for children when he came up with basketball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0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14:15:02Z</dcterms:created>
  <dc:creator>install</dc:creator>
  <dc:description/>
  <dc:language>en-US</dc:language>
  <cp:lastModifiedBy>install</cp:lastModifiedBy>
  <dcterms:modified xsi:type="dcterms:W3CDTF">2010-03-18T13:41:10Z</dcterms:modified>
  <cp:revision>8</cp:revision>
  <dc:subject/>
  <dc:title>Slide 1</dc:title>
</cp:coreProperties>
</file>